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7868-3300-40BF-A126-9F45C246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5F86-9187-42B8-B2D3-3952741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0D0D-BE4F-47CA-8CCB-F4AFA7CA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51A5-2A6B-4A4D-B493-35E0C32C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C7D-97FA-430B-876F-9971EE26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3800-2CA7-4459-8431-8A592A5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5E7-160B-4FE8-8140-FCBBC4BA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D7B-4B58-4578-8B64-7FAAB538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AE8-83B3-4480-A408-98A6BE5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0F8-8523-4687-BD9E-A340282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370D-36D3-41DC-A1FD-B124D4E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687F-1A25-40AA-951E-D6CBF07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CE6-615F-40CA-A7F2-BC59A5F5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4B55-539C-49A8-BD8A-B68FE96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4E4-A89C-4658-B68E-F5B854E0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0B5A-5517-4F6C-9131-23C89560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99D-5D44-48C6-91E6-CB753EC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244C-1F88-4454-81B6-94DB76CF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7BCD-9ABD-44E2-B390-928BEA41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F8EF-B3E3-4FE1-A2FD-069B580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0C1C-F152-41CE-BFFA-D3F8459D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848D-DCA9-4050-A383-42E7E06E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59D6-F96B-4C79-9B2F-2DC8A95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8F9A-D006-4EAA-8339-EC82FB8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1AC-E2DE-4831-9BDA-9D3E9FA7EC1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90A-6560-44A6-8A31-C712CC2E7FF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uro" TargetMode="External"/><Relationship Id="rId2" Type="http://schemas.openxmlformats.org/officeDocument/2006/relationships/hyperlink" Target="http://pt.wikipedia.org/wiki/Bronze" TargetMode="External"/><Relationship Id="rId3" Type="http://schemas.openxmlformats.org/officeDocument/2006/relationships/hyperlink" Target="http://pt.wikipedia.org/wiki/Marfim" TargetMode="External"/><Relationship Id="rId4" Type="http://schemas.openxmlformats.org/officeDocument/2006/relationships/hyperlink" Target="http://pt.wikipedia.org/wiki/Magia" TargetMode="External"/><Relationship Id="rId5" Type="http://schemas.openxmlformats.org/officeDocument/2006/relationships/hyperlink" Target="http://pt.wikipedia.org/wiki/M&#225;scara" TargetMode="External"/><Relationship Id="rId6" Type="http://schemas.openxmlformats.org/officeDocument/2006/relationships/hyperlink" Target="http://pt.wikipedia.org/wiki/Misticismo" TargetMode="External"/><Relationship Id="rId7" Type="http://schemas.openxmlformats.org/officeDocument/2006/relationships/hyperlink" Target="http://pt.wikipedia.org/wiki/Ritual" TargetMode="External"/><Relationship Id="rId8" Type="http://schemas.openxmlformats.org/officeDocument/2006/relationships/hyperlink" Target="http://pt.wikipedia.org/wiki/Funeral" TargetMode="External"/><Relationship Id="rId9" Type="http://schemas.openxmlformats.org/officeDocument/2006/relationships/hyperlink" Target="http://pt.wikipedia.org/wiki/Argila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onsciência Negra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balho de Histó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tribuição Cultural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é celebrado em 20 de Novembro no Brasil e é dedicado à reflexão sobre a inserção do negro na sociedade brasilei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data foi escolhida por coincidir com o dia da morte de Zumbi dos Palmares, em 1695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procura ser uma data para se lembrar a resistência do negro à escravidão de forma geral, desde o primeiro transporte forçado de africanos para o solo brasilei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lgumas entidades como o Movimento Negro (o maior do gênero no país) organizam palestras e eventos educativos, visando principalmente crianças negras. Procura-se evitar o desenvolvimento do auto-preconceito, ou seja,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da inferiorização perante a socie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-46180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Religião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 índio e o negro,obrigados à aceitar a religião dos senhores,continuavam a crer nos seu Deuses e,os cultuavam,na clandestinidade.Descobertos,eram castigados severamente,muitos morreram,acusados de mandingas contra a Casa Gran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nda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 Batalha contra a Morte; Quem perde o corpo é a língua ;O homem-leão e o gado; A menina e o barril; O demônio que engolia vidas;Kigbo e os espíritos do mato; O homem que carrega a morte nas costas; A Viúva Velha; lendas européias como: Vikings, Celtas, Russas, Japones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Utensíl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escultura foi uma forma de arte muito utilizada pelos artistas africanos usando-se 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1"/>
              </a:rPr>
              <a:t>ou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2"/>
              </a:rPr>
              <a:t>bronz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3"/>
              </a:rPr>
              <a:t>marfi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como matéria prima. Representando um disfarce para a incorporação dos espíritos e a possibilidade de adquirir forç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4"/>
              </a:rPr>
              <a:t>mágic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5"/>
              </a:rPr>
              <a:t>máscar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têm um significad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6"/>
              </a:rPr>
              <a:t>místic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importante na arte africana sendo usadas no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7"/>
              </a:rPr>
              <a:t>ritu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8"/>
              </a:rPr>
              <a:t>funer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 As máscaras são confeccionadas em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9"/>
              </a:rPr>
              <a:t>bar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marfim, metais, mas o material mais utilizado é a madeira. Para estabelecer a purificação e a ligação com a entidade sagrada, são modeladas em segredo na selva. Visitando os museus d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uropa Ociden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é possível conhecer o maior acervo da arte antiga africana no mu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ábitos Culinár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o se sabe, o continente africano é habitado por uma vasta gama de etnias e, portanto, de culturas, as quais, de norte a sul, são marcadas por suas especificidades. A diversidade cultural existente na África reflete-se também nos hábitos alimentares dos africanos e na preparação dos alimentos, ou seja, n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 african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dicionalmente, esta combina as frutas disponíveis nas localidades, grãos, vegetais, leite e carne. Porém, em algumas regiões do continente, o alimento tradicional predominante deriva do leite, como a coalhada e o soro. Alguns alimentos como o milho, a mandioca e a abóbora, originários da América, foram introduzidos na África pelos europeus, ao longo do século XVI. Lembramos também que as influências da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s árab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asiática e européia se fizeram sentir ao longo da história do contin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omes: Victor e Eduardo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érie: 7 Ano “B”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rs°: 07 e 24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4:32Z</dcterms:created>
  <dc:creator>SEDMS</dc:creator>
  <dc:description/>
  <dc:language>en-US</dc:language>
  <cp:lastModifiedBy>administradorr</cp:lastModifiedBy>
  <dcterms:modified xsi:type="dcterms:W3CDTF">2010-11-09T17:37:28Z</dcterms:modified>
  <cp:revision>2</cp:revision>
  <dc:subject/>
  <dc:title>Consciência Negra</dc:title>
</cp:coreProperties>
</file>